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91166-AEE7-4173-92BD-48EBC90C8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541AD-7119-4F6B-B92C-2D541CA0C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76642-C2AD-4600-B7C9-A872A53E5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00A82-1B4C-43A6-9FCA-851E355FC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5F293-158B-404F-B918-0205163087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6DF7E-24B8-4ADE-AE6C-9F0005643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7A986-2111-4A2C-8047-32223FE73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F7D77-C58F-494E-8C71-B8EEE074B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FB6C8-7C47-4E8D-9A7E-EF17A2A7F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32F7A-ACAE-4C6C-B7C9-5A60A2297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E57B5-6B0B-4D6B-BF0E-8D8CA9CB9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46201-F109-4493-B8F1-424CBB042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93224-B4D5-468F-8B71-D1FB912C4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1A754-FBA6-49B3-9222-7E975C0BC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BF21A-5B70-4720-A946-23F04BB91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647CA-CC5B-4263-9E96-654467836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F2BEB-1E09-4AB9-8B9A-C54D7F951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7E51B2-788C-4BF1-B5D6-20C4C61179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B4E32-12B2-47D4-B76F-1192D008D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6B1A49-4C9C-4811-B994-6A4C2446F9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D58175-741A-47B0-BA1D-F7CB8B86E9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39195-6551-40EF-AED3-CB4A4DA44E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F60DE-8A64-4813-9E98-328F825B2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EF44FF-D526-43DD-81C5-FF9AA6263F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51A8F6-3E00-41EC-AD1B-B990F54F0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AFE9E-F505-4CEE-B52F-13D632804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79C16-B066-4163-A0BF-0618559517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1E03EC-517F-4E6F-AAD5-69F9ED1722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8DCB03-838F-4C7A-A59C-D1B3A54189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C9A00B-6A05-4CA3-97E2-F9A8BC1040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1DF7CD-93FA-42CF-AC53-65045D7C30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C789EC-BFD5-4FAF-9439-F57D631C2C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9FF9E9-D737-4C77-A0B0-E840C23DC5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2CE10-9A07-4380-AC6C-E985FB8AE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A32D5D-0D78-41DA-B600-8655AC06F0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C0C14E-C37D-42E1-AD74-4B88027550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F2E025-FE52-4A38-9BC4-643587589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A40DF-3091-4CB4-9FD4-596CFBB30A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410325-7DF6-46E5-B92B-2A8C8ECB8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2E5DF-648D-4372-B573-72F85EFD6D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368D87-502D-4781-B154-1CDDA227ED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74F852-6DDD-4665-ADA5-74C3E5F463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8034D1-165E-487E-A021-20556DFF72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5E5892-5420-420A-A39A-572C025E07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D114F-A315-4AAA-8556-3C2C61349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2036A7-7694-4C1E-8F95-4EEB1DE95B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EE1B88-9BF9-4CC6-A176-497605A455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D285C4-A6AA-46EC-99C0-89F3A97773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C157BA-88BF-43DF-83AC-0053738AE6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D3BDD6-C78F-4AB9-8793-15012286FC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CE14F0-7E4F-42B0-A6F5-90C64F943F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88CEE4-A637-4B4E-9E12-28294199CA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CF08A3-AD8F-4116-8CB8-466E8D83CD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1183D3-A92C-433F-B6F9-23FA9CE576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89B186-D301-40C3-B702-AF0A599A9A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D357A-565D-4842-90A7-96F5C964F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5A2703-8D25-4C20-BA5C-FED2ABD96F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EA83F8-D57A-4816-A401-14CC865B8B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E1B542-FA7E-4242-B32B-C3C88E5835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7AC053-A77D-422B-A6C1-1E7236F94B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D1C2EC-9909-4BE6-B9AF-9410E524D5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5346D9-F132-44E8-BB40-FC97F18545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B24A14-8224-427D-ACB2-941F80E819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5F8CD5-FE68-4C1A-9FD6-23C1F7596B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312F17-8157-49DB-AFF5-72D8283CFF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F2B7F0-A215-4B63-8B6B-97DF056117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07562-7661-49C3-8E7A-B68A3BB84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1E45F9-0A2A-44A1-95D2-6BAA821044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67FAD6-A703-461C-A1A8-6AB2D02EC2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719D8E-D313-4952-9B93-4F523EC6E3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FD9CB-6B59-421D-8FCF-7AE714715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659FA-4DDB-4608-9795-9AFFD8EFB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465C-D5C3-4280-ABF7-62946B022FA3}"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10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12 Forma libre"/>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7241-B208-4005-9298-492ACBBA6704}" type="slidenum">
              <a:rPr b="0" lang="es-E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10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12 Forma libre"/>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2BB7-FAEB-4C03-A258-07E59A487B9C}" type="slidenum">
              <a:rPr b="0" lang="es-E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FBF3-0115-4549-AEA1-242005595010}"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F502-B6BA-4651-97FD-0B9AD16ACFA0}"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895B-0A1B-4AB3-9C2E-B979C99FD0A4}"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1 Título" descr=""/>
          <p:cNvPicPr/>
          <p:nvPr/>
        </p:nvPicPr>
        <p:blipFill>
          <a:blip r:embed="rId1"/>
          <a:stretch/>
        </p:blipFill>
        <p:spPr>
          <a:xfrm>
            <a:off x="633240" y="2803680"/>
            <a:ext cx="7785360" cy="160308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85840" y="213840"/>
            <a:ext cx="850104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s-ES" sz="4100" spc="-1" strike="noStrike">
                <a:solidFill>
                  <a:srgbClr val="ffffff"/>
                </a:solidFill>
                <a:latin typeface="Franklin Gothic Book"/>
              </a:rPr>
              <a:t>Teoría Fundamentada</a:t>
            </a:r>
            <a:br>
              <a:rPr sz="4100"/>
            </a:br>
            <a:endParaRPr b="0" lang="en-US" sz="4100" spc="-1" strike="noStrike">
              <a:solidFill>
                <a:srgbClr val="ffffff"/>
              </a:solidFill>
              <a:latin typeface="Franklin Gothic Book"/>
            </a:endParaRPr>
          </a:p>
        </p:txBody>
      </p:sp>
      <p:sp>
        <p:nvSpPr>
          <p:cNvPr id="26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Su planteamiento básico es que las proposiciones teóricas surgen de los datos obtenidos en la investigación, más que de los estudios previos.</a:t>
            </a:r>
            <a:endParaRPr b="0" lang="en-US" sz="2100" spc="-1" strike="noStrike">
              <a:solidFill>
                <a:srgbClr val="ffffff"/>
              </a:solidFill>
              <a:latin typeface="Arial"/>
            </a:endParaRPr>
          </a:p>
          <a:p>
            <a:pPr marL="419040" indent="-382680" algn="just">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Es especialmente útil cuando las teorías disponibles no explican el fenómeno o planteamiento del problema, o bien, cuando no cubren a los participantes o muestra de interés (Creswell, 2005).</a:t>
            </a:r>
            <a:endParaRPr b="0" lang="en-US" sz="2100" spc="-1" strike="noStrike">
              <a:solidFill>
                <a:srgbClr val="ffffff"/>
              </a:solidFill>
              <a:latin typeface="Arial"/>
            </a:endParaRPr>
          </a:p>
          <a:p>
            <a:pPr marL="419040" indent="-3826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Este tipo de diseños se pueden clasificar en diseños sistemáticos y diseños emergentes.</a:t>
            </a:r>
            <a:endParaRPr b="0" lang="en-US" sz="2100" spc="-1" strike="noStrike">
              <a:solidFill>
                <a:srgbClr val="ffffff"/>
              </a:solidFill>
              <a:latin typeface="Arial"/>
            </a:endParaRPr>
          </a:p>
          <a:p>
            <a:pPr marL="419040" indent="-382680">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s-ES" sz="4100" spc="-1" strike="noStrike">
                <a:solidFill>
                  <a:srgbClr val="ffffff"/>
                </a:solidFill>
                <a:latin typeface="Franklin Gothic Book"/>
              </a:rPr>
              <a:t>Etnográficos</a:t>
            </a:r>
            <a:br>
              <a:rPr sz="4100"/>
            </a:br>
            <a:endParaRPr b="0" lang="en-US" sz="4100" spc="-1" strike="noStrike">
              <a:solidFill>
                <a:srgbClr val="ffffff"/>
              </a:solidFill>
              <a:latin typeface="Franklin Gothic Book"/>
            </a:endParaRPr>
          </a:p>
        </p:txBody>
      </p:sp>
      <p:sp>
        <p:nvSpPr>
          <p:cNvPr id="269" name=""/>
          <p:cNvSpPr txBox="1"/>
          <p:nvPr/>
        </p:nvSpPr>
        <p:spPr>
          <a:xfrm>
            <a:off x="428400" y="2071440"/>
            <a:ext cx="7467480" cy="3840120"/>
          </a:xfrm>
          <a:prstGeom prst="rect">
            <a:avLst/>
          </a:prstGeom>
          <a:noFill/>
          <a:ln w="0">
            <a:noFill/>
          </a:ln>
        </p:spPr>
        <p:txBody>
          <a:bodyPr lIns="90000" rIns="90000" tIns="46800" bIns="46800" anchor="t">
            <a:normAutofit/>
          </a:bodyPr>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alibri"/>
              </a:rPr>
              <a:t>Buscan describir y analizar ideas, creencias, significados, conocimientos y prácticas de grupos, culturas y comunidades. Incluso pueden ser muy amplios y abarcar la historia, la geografía y los subsistemas socioeconómico, educativo, político y cultural de un sistema social (rituales, símbolos, funciones sociales, parentesco, migraciones, redes, entre otros).</a:t>
            </a:r>
            <a:endParaRPr b="0" lang="en-US" sz="2100" spc="-1" strike="noStrike">
              <a:solidFill>
                <a:srgbClr val="ffffff"/>
              </a:solidFill>
              <a:latin typeface="Arial"/>
            </a:endParaRPr>
          </a:p>
          <a:p>
            <a:pPr marL="419040" indent="-382680">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s-ES" sz="4100" spc="-1" strike="noStrike">
                <a:solidFill>
                  <a:srgbClr val="ffffff"/>
                </a:solidFill>
                <a:latin typeface="Franklin Gothic Book"/>
              </a:rPr>
              <a:t>Diseños Narrativos</a:t>
            </a:r>
            <a:br>
              <a:rPr sz="4100"/>
            </a:br>
            <a:endParaRPr b="0" lang="en-US" sz="4100" spc="-1" strike="noStrike">
              <a:solidFill>
                <a:srgbClr val="ffffff"/>
              </a:solidFill>
              <a:latin typeface="Franklin Gothic Book"/>
            </a:endParaRPr>
          </a:p>
        </p:txBody>
      </p:sp>
      <p:sp>
        <p:nvSpPr>
          <p:cNvPr id="27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alibri"/>
              </a:rPr>
              <a:t>Recolecta datos sobre las historias de vida y experiencias de determinadas personas para describirlas y analizarlas. Son de interés las personas en sí mismas y su entorno.</a:t>
            </a:r>
            <a:endParaRPr b="0" lang="en-US" sz="2100" spc="-1" strike="noStrike">
              <a:solidFill>
                <a:srgbClr val="ffffff"/>
              </a:solidFill>
              <a:latin typeface="Arial"/>
            </a:endParaRPr>
          </a:p>
          <a:p>
            <a:pPr marL="419040" indent="-3826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alibri"/>
              </a:rPr>
              <a:t>	</a:t>
            </a:r>
            <a:r>
              <a:rPr b="0" lang="es-ES" sz="2100" spc="-1" strike="noStrike">
                <a:solidFill>
                  <a:srgbClr val="ffffff"/>
                </a:solidFill>
                <a:latin typeface="Calibri"/>
              </a:rPr>
              <a:t>Se usa frecuentemente cuando el objetivo es evaluar una sucesión de acontecimientos.</a:t>
            </a:r>
            <a:endParaRPr b="0" lang="en-US" sz="2100" spc="-1" strike="noStrike">
              <a:solidFill>
                <a:srgbClr val="ffffff"/>
              </a:solidFill>
              <a:latin typeface="Arial"/>
            </a:endParaRPr>
          </a:p>
          <a:p>
            <a:pPr marL="419040" indent="-3826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alibri"/>
              </a:rPr>
              <a:t>Los datos se obtienen de autobiografías, biografías, entrevistas, documentos, artefactos y materiales personales y testimonios </a:t>
            </a:r>
            <a:endParaRPr b="0" lang="en-US" sz="2100" spc="-1" strike="noStrike">
              <a:solidFill>
                <a:srgbClr val="ffffff"/>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s-ES" sz="4100" spc="-1" strike="noStrike">
                <a:solidFill>
                  <a:srgbClr val="ffffff"/>
                </a:solidFill>
                <a:latin typeface="Franklin Gothic Book"/>
              </a:rPr>
              <a:t>Diseños de Investigación-Acción</a:t>
            </a:r>
            <a:br>
              <a:rPr sz="4100"/>
            </a:br>
            <a:endParaRPr b="0" lang="en-US" sz="4100" spc="-1" strike="noStrike">
              <a:solidFill>
                <a:srgbClr val="ffffff"/>
              </a:solidFill>
              <a:latin typeface="Franklin Gothic Book"/>
            </a:endParaRPr>
          </a:p>
        </p:txBody>
      </p:sp>
      <p:sp>
        <p:nvSpPr>
          <p:cNvPr id="27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alibri"/>
              </a:rPr>
              <a:t>La finalidad es resolver problemas cotidianos e inmediatos, y mejorar prácticas concretas. Su propósito fundamental se centra en aportar información que guíe la toma de decisiones para programas, procesos y reformas estructurales.</a:t>
            </a: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	</a:t>
            </a:r>
            <a:r>
              <a:rPr b="0" lang="es-ES" sz="2100" spc="-1" strike="noStrike">
                <a:solidFill>
                  <a:srgbClr val="ffffff"/>
                </a:solidFill>
                <a:latin typeface="Calibri"/>
              </a:rPr>
              <a:t>Fases esenciales (Según Stringer,1999): </a:t>
            </a:r>
            <a:endParaRPr b="0" lang="en-US" sz="2100" spc="-1" strike="noStrike">
              <a:solidFill>
                <a:srgbClr val="ffffff"/>
              </a:solidFill>
              <a:latin typeface="Arial"/>
            </a:endParaRPr>
          </a:p>
          <a:p>
            <a:pPr marL="419040" indent="-382680">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alibri"/>
              </a:rPr>
              <a:t>Observar (construir un bosquejo del problema y recolectar datos)</a:t>
            </a:r>
            <a:endParaRPr b="0" lang="en-US" sz="2100" spc="-1" strike="noStrike">
              <a:solidFill>
                <a:srgbClr val="ffffff"/>
              </a:solidFill>
              <a:latin typeface="Arial"/>
            </a:endParaRPr>
          </a:p>
          <a:p>
            <a:pPr marL="419040" indent="-382680">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alibri"/>
              </a:rPr>
              <a:t>Pensar (analizar e interpretar) </a:t>
            </a:r>
            <a:endParaRPr b="0" lang="en-US" sz="2100" spc="-1" strike="noStrike">
              <a:solidFill>
                <a:srgbClr val="ffffff"/>
              </a:solidFill>
              <a:latin typeface="Arial"/>
            </a:endParaRPr>
          </a:p>
          <a:p>
            <a:pPr marL="419040" indent="-382680">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alibri"/>
              </a:rPr>
              <a:t>Actuar (resolver problemas e implementar mejoras) </a:t>
            </a:r>
            <a:endParaRPr b="0" lang="en-US" sz="2100" spc="-1" strike="noStrike">
              <a:solidFill>
                <a:srgbClr val="ffffff"/>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400" y="107136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600" spc="-1" strike="noStrike">
                <a:solidFill>
                  <a:srgbClr val="ffffff"/>
                </a:solidFill>
                <a:latin typeface="Franklin Gothic Book"/>
              </a:rPr>
              <a:t>Diseños Fenomenológicos</a:t>
            </a:r>
            <a:endParaRPr b="0" lang="en-US" sz="4600" spc="-1" strike="noStrike">
              <a:solidFill>
                <a:srgbClr val="ffffff"/>
              </a:solidFill>
              <a:latin typeface="Franklin Gothic Book"/>
            </a:endParaRPr>
          </a:p>
        </p:txBody>
      </p:sp>
      <p:sp>
        <p:nvSpPr>
          <p:cNvPr id="275" name=""/>
          <p:cNvSpPr txBox="1"/>
          <p:nvPr/>
        </p:nvSpPr>
        <p:spPr>
          <a:xfrm>
            <a:off x="456840" y="2428920"/>
            <a:ext cx="7467480" cy="3697200"/>
          </a:xfrm>
          <a:prstGeom prst="rect">
            <a:avLst/>
          </a:prstGeom>
          <a:noFill/>
          <a:ln w="0">
            <a:noFill/>
          </a:ln>
        </p:spPr>
        <p:txBody>
          <a:bodyPr lIns="90000" rIns="90000" tIns="46800" bIns="46800" anchor="t">
            <a:normAutofit/>
          </a:bodyPr>
          <a:p>
            <a:pPr marL="419040" indent="-3826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Se enfocan en las experiencias individuales subjetivas de los participantes. El centro de indagación de estos diseños reside en la(s) experiencia(s) del participante o participantes</a:t>
            </a:r>
            <a:endParaRPr b="0" lang="en-US" sz="2100" spc="-1" strike="noStrike">
              <a:solidFill>
                <a:srgbClr val="ffffff"/>
              </a:solidFill>
              <a:latin typeface="Arial"/>
            </a:endParaRPr>
          </a:p>
          <a:p>
            <a:pPr marL="419040" indent="-382680">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Franklin Gothic Book"/>
              </a:rPr>
              <a:t>Se fundamenta en las siguientes premisas: (Creswell, 1998; Alvarez-Gayou, 2003; y Mertens, 2005).</a:t>
            </a:r>
            <a:br>
              <a:rPr sz="2500"/>
            </a:br>
            <a:endParaRPr b="0" lang="en-US" sz="2500" spc="-1" strike="noStrike">
              <a:solidFill>
                <a:srgbClr val="ffffff"/>
              </a:solidFill>
              <a:latin typeface="Franklin Gothic Book"/>
            </a:endParaRPr>
          </a:p>
        </p:txBody>
      </p:sp>
      <p:sp>
        <p:nvSpPr>
          <p:cNvPr id="27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alibri"/>
              </a:rPr>
              <a:t>Se pretende describir y entender los fenómenos desde el punto de vista de cada participante y desde la perspectiva construida colectivament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alibri"/>
              </a:rPr>
              <a:t>Se basa en el análisis de discursos y temas específicos, así como en la búsqueda de sus posibles significados.</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alibri"/>
              </a:rPr>
              <a:t>El investigador confía en la intuición y en la imaginación para lograr aprehender la experiencia de los participantes.</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alibri"/>
              </a:rPr>
              <a:t>El investigador contextualiza las experiencias en términos de su temporalidad,espacio y el contexto relacional.</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alibri"/>
              </a:rPr>
              <a:t>Las entrevistas, grupos de enfoque, recolección de documentos y materiales e historias de vida se dirigen a encontrar temas sobre experiencias cotidianas y excepcionales.</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6840" y="571320"/>
            <a:ext cx="7829640" cy="5554440"/>
          </a:xfrm>
          <a:prstGeom prst="rect">
            <a:avLst/>
          </a:prstGeom>
          <a:noFill/>
          <a:ln w="0">
            <a:noFill/>
          </a:ln>
        </p:spPr>
        <p:txBody>
          <a:bodyPr lIns="90000" rIns="90000" tIns="46800" bIns="46800" anchor="t">
            <a:normAutofit/>
          </a:bodyPr>
          <a:p>
            <a:pPr marL="419040" indent="-3826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19040" indent="-3826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anklin Gothic Book"/>
              </a:rPr>
              <a:t>Análisis de los datos</a:t>
            </a:r>
            <a:endParaRPr b="0" lang="en-US" sz="36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Taylor &amp; Bogdan (1990) proponen un enfoque de análisis en progreso en investigación cualitativa basado en tres momentos (Descubrimiento, Codificación y Relativización) los cuales están dirigidos a buscar el desarrollo de una comprensión en profundidad de los escenarios o personas que se estudian.</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642600"/>
            <a:ext cx="8229600" cy="5483160"/>
          </a:xfrm>
          <a:prstGeom prst="rect">
            <a:avLst/>
          </a:prstGeom>
          <a:noFill/>
          <a:ln w="0">
            <a:noFill/>
          </a:ln>
        </p:spPr>
        <p:txBody>
          <a:bodyPr lIns="90000" rIns="90000" tIns="46800" bIns="46800" anchor="t">
            <a:normAutofit/>
          </a:bodyPr>
          <a:p>
            <a:pPr marL="419040" indent="-382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Arial"/>
              </a:rPr>
              <a:t>Fase de descubrimiento</a:t>
            </a:r>
            <a:endParaRPr b="0" lang="en-US" sz="3000" spc="-1" strike="noStrike">
              <a:solidFill>
                <a:srgbClr val="ffffff"/>
              </a:solidFill>
              <a:latin typeface="Arial"/>
            </a:endParaRPr>
          </a:p>
          <a:p>
            <a:pPr marL="419040" indent="-382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rPr>
              <a:t> </a:t>
            </a:r>
            <a:r>
              <a:rPr b="0" lang="es-ES" sz="2200" spc="-1" strike="noStrike">
                <a:solidFill>
                  <a:srgbClr val="ffffff"/>
                </a:solidFill>
                <a:latin typeface="Arial"/>
              </a:rPr>
              <a:t>Consiste en buscar temas examinando los datos de todos los modos posibles, lo cual involucra las siguientes acciones:</a:t>
            </a: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eer repetidamente los datos.</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guir la pista de temas, intuiciones, interpretaciones e ideas.</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Buscar los temas emergentes.</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laborar las tipologías.</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esarrollar conceptos y proposiciones teóricas.</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eer el material bibliográfico.</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esarrollar una guía de la historia.</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713880"/>
            <a:ext cx="8229600" cy="5411880"/>
          </a:xfrm>
          <a:prstGeom prst="rect">
            <a:avLst/>
          </a:prstGeom>
          <a:noFill/>
          <a:ln w="0">
            <a:noFill/>
          </a:ln>
        </p:spPr>
        <p:txBody>
          <a:bodyPr lIns="90000" rIns="90000" tIns="46800" bIns="46800" anchor="t">
            <a:normAutofit/>
          </a:bodyPr>
          <a:p>
            <a:pPr marL="419040" indent="-382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Arial"/>
              </a:rPr>
              <a:t>Fase de codificación</a:t>
            </a:r>
            <a:endParaRPr b="0" lang="en-US" sz="3000" spc="-1" strike="noStrike">
              <a:solidFill>
                <a:srgbClr val="ffffff"/>
              </a:solidFill>
              <a:latin typeface="Arial"/>
            </a:endParaRPr>
          </a:p>
          <a:p>
            <a:pPr marL="419040" indent="-382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s la reunión y análisis de todos los datos que se refieren a temas, ideas, conceptos, interpretaciones y proposiciones, cuyas acciones son:</a:t>
            </a: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esarrollar categorías de codificación.</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Codificar todos los datos.</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parar los datos pertenecientes a las diversas categorías de codificación.</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xaminar los datos que no se han considerado.</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Refinar el análisis.</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57200" y="713880"/>
            <a:ext cx="8229600" cy="5411880"/>
          </a:xfrm>
          <a:prstGeom prst="rect">
            <a:avLst/>
          </a:prstGeom>
          <a:noFill/>
          <a:ln w="0">
            <a:noFill/>
          </a:ln>
        </p:spPr>
        <p:txBody>
          <a:bodyPr lIns="90000" rIns="90000" tIns="46800" bIns="46800" anchor="t">
            <a:normAutofit/>
          </a:bodyPr>
          <a:p>
            <a:pPr marL="419040" indent="-382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Arial"/>
              </a:rPr>
              <a:t>Fase de relativización de los datos</a:t>
            </a:r>
            <a:endParaRPr b="0" lang="en-US" sz="30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rPr>
              <a:t> </a:t>
            </a:r>
            <a:r>
              <a:rPr b="0" lang="es-ES" sz="2200" spc="-1" strike="noStrike">
                <a:solidFill>
                  <a:srgbClr val="ffffff"/>
                </a:solidFill>
                <a:latin typeface="Arial"/>
              </a:rPr>
              <a:t>Consiste en interpretar los datos en el contexto en el que fueron recogidos, cuyas acciones son:</a:t>
            </a: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atos solicitados o no solicitados.</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Influencia del observador sobre el escenario.</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Quién estaba allí? (Diferencias entre lo que la gente dice y hace cuando está sola y cuando hay otros en el lugar).</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atos directos e indirectos.</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Fuentes (Distinguir entre la perspectiva de una sola persona y las de un grupo más amplio).</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os propios supuestos (autorreflexión crítica).</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Calibri"/>
              </a:rPr>
              <a:t>Características Generales</a:t>
            </a:r>
            <a:endParaRPr b="0" lang="en-US" sz="4600" spc="-1" strike="noStrike">
              <a:solidFill>
                <a:srgbClr val="ffffff"/>
              </a:solidFill>
              <a:latin typeface="Franklin Gothic Book"/>
            </a:endParaRPr>
          </a:p>
        </p:txBody>
      </p:sp>
      <p:sp>
        <p:nvSpPr>
          <p:cNvPr id="25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9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Es flexible y elástico, es decir, puede adaptarse a lo que se descubre mientras se recogen los datos, como ya hemos apuntado anteriormente.</a:t>
            </a:r>
            <a:endParaRPr b="0" lang="en-US" sz="2300" spc="-1" strike="noStrike">
              <a:solidFill>
                <a:srgbClr val="ffffff"/>
              </a:solidFill>
              <a:latin typeface="Arial"/>
            </a:endParaRPr>
          </a:p>
          <a:p>
            <a:pPr marL="419040" indent="-3826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9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Implica la fusión de diferentes metodologías.</a:t>
            </a:r>
            <a:endParaRPr b="0" lang="en-US" sz="2300" spc="-1" strike="noStrike">
              <a:solidFill>
                <a:srgbClr val="ffffff"/>
              </a:solidFill>
              <a:latin typeface="Arial"/>
            </a:endParaRPr>
          </a:p>
          <a:p>
            <a:pPr marL="419040" indent="-382680" algn="just">
              <a:lnSpc>
                <a:spcPct val="9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9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Tiende a ser holista, ya que se esfuerza por comprender la totalidad del fenómeno de interés.</a:t>
            </a:r>
            <a:endParaRPr b="0" lang="en-US" sz="2300" spc="-1" strike="noStrike">
              <a:solidFill>
                <a:srgbClr val="ffffff"/>
              </a:solidFill>
              <a:latin typeface="Arial"/>
            </a:endParaRPr>
          </a:p>
          <a:p>
            <a:pPr marL="419040" indent="-3826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 </a:t>
            </a:r>
            <a:endParaRPr b="0" lang="en-US" sz="2300" spc="-1" strike="noStrike">
              <a:solidFill>
                <a:srgbClr val="ffffff"/>
              </a:solidFill>
              <a:latin typeface="Arial"/>
            </a:endParaRPr>
          </a:p>
          <a:p>
            <a:pPr marL="419040" indent="-382680" algn="just">
              <a:lnSpc>
                <a:spcPct val="9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Se concentra en comprender el fenómeno o el entorno social. No busca hacer predicciones sobre dicho entorno o fenómeno</a:t>
            </a:r>
            <a:endParaRPr b="0" lang="en-US" sz="2300" spc="-1" strike="noStrike">
              <a:solidFill>
                <a:srgbClr val="ffffff"/>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713880"/>
            <a:ext cx="8229600" cy="5411880"/>
          </a:xfrm>
          <a:prstGeom prst="rect">
            <a:avLst/>
          </a:prstGeom>
          <a:noFill/>
          <a:ln w="0">
            <a:noFill/>
          </a:ln>
        </p:spPr>
        <p:txBody>
          <a:bodyPr lIns="90000" rIns="90000" tIns="46800" bIns="46800" anchor="t">
            <a:normAutofit/>
          </a:bodyPr>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Algunos autores unen a la crítica teórica una propuesta práctica de análisis del material cualitativo. Huberman &amp; Miles (2000) proponen tres subprocesos vinculados entre sí para realizar el análisis:</a:t>
            </a: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a) La </a:t>
            </a:r>
            <a:r>
              <a:rPr b="0" i="1" lang="es-ES" sz="2200" spc="-1" strike="noStrike">
                <a:solidFill>
                  <a:srgbClr val="ffffff"/>
                </a:solidFill>
                <a:latin typeface="Arial"/>
              </a:rPr>
              <a:t>reducción de datos</a:t>
            </a:r>
            <a:r>
              <a:rPr b="0" lang="es-ES" sz="2200" spc="-1" strike="noStrike">
                <a:solidFill>
                  <a:srgbClr val="ffffff"/>
                </a:solidFill>
                <a:latin typeface="Arial"/>
              </a:rPr>
              <a:t>, orientada a su selección y condensación, se realiza anticipadamente (al elaborar el marco conceptual, definir las preguntas, seleccionar los participantes y los instrumentos de recogida de datos), o una vez recolectados mediante la elaboración de resúmenes, codificaciones, relación de temas, clasificaciones, etc.</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642600" y="1499760"/>
            <a:ext cx="7467480" cy="4186440"/>
          </a:xfrm>
          <a:prstGeom prst="rect">
            <a:avLst/>
          </a:prstGeom>
          <a:noFill/>
          <a:ln w="0">
            <a:noFill/>
          </a:ln>
        </p:spPr>
        <p:txBody>
          <a:bodyPr lIns="90000" rIns="90000" tIns="46800" bIns="46800" anchor="t">
            <a:normAutofit/>
          </a:bodyPr>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La </a:t>
            </a:r>
            <a:r>
              <a:rPr b="0" i="1" lang="es-ES" sz="2000" spc="-1" strike="noStrike">
                <a:solidFill>
                  <a:srgbClr val="ffffff"/>
                </a:solidFill>
                <a:latin typeface="Arial"/>
              </a:rPr>
              <a:t>presentación de datos</a:t>
            </a:r>
            <a:r>
              <a:rPr b="0" lang="es-ES" sz="2000" spc="-1" strike="noStrike">
                <a:solidFill>
                  <a:srgbClr val="ffffff"/>
                </a:solidFill>
                <a:latin typeface="Arial"/>
              </a:rPr>
              <a:t>, orientada a facilitar la mirada reflexiva del investigador a través de presentaciones concentradas, como pueden ser resúmenes estructurados, sinopsis, croquis, diagramas, entre otros.</a:t>
            </a: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La </a:t>
            </a:r>
            <a:r>
              <a:rPr b="0" i="1" lang="es-ES" sz="2000" spc="-1" strike="noStrike">
                <a:solidFill>
                  <a:srgbClr val="ffffff"/>
                </a:solidFill>
                <a:latin typeface="Arial"/>
              </a:rPr>
              <a:t>elaboración y verificación de conclusiones</a:t>
            </a:r>
            <a:r>
              <a:rPr b="0" lang="es-ES" sz="2000" spc="-1" strike="noStrike">
                <a:solidFill>
                  <a:srgbClr val="ffffff"/>
                </a:solidFill>
                <a:latin typeface="Arial"/>
              </a:rPr>
              <a:t>, en la que se utilizan una serie de tácticas para extraer significados de los datos, como pueden ser la comparación/contraste, el señalamiento de patrones y temas, la triangulación, la búsqueda de casos negativos, etc.</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500040"/>
            <a:ext cx="7758000" cy="5626080"/>
          </a:xfrm>
          <a:prstGeom prst="rect">
            <a:avLst/>
          </a:prstGeom>
          <a:noFill/>
          <a:ln w="0">
            <a:noFill/>
          </a:ln>
        </p:spPr>
        <p:txBody>
          <a:bodyPr lIns="90000" rIns="90000" tIns="46800" bIns="46800" anchor="t">
            <a:normAutofit/>
          </a:bodyPr>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Franklin Gothic Book"/>
              </a:rPr>
              <a:t>Clasificación de los diseños por su utilidad</a:t>
            </a:r>
            <a:endParaRPr b="0" lang="en-US" sz="30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Hay cuatro marcadores básicos de utilidad que se pueden explorar en un estudio cualitativo: la credibilidad, los hallazgos, la transferibilidad y la aplicabilidad. La lectura crítica de un estudio interpretativo o descriptivo debe aportar información suficiente sobre estas cuatro dimensiones para hacer posible una toma de decisión sobre la utilidad o desutilidad del estudio y de los hallazgos. </a:t>
            </a:r>
            <a:endParaRPr b="0" lang="en-US" sz="2200" spc="-1" strike="noStrike">
              <a:solidFill>
                <a:srgbClr val="ffffff"/>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857160"/>
            <a:ext cx="8229600" cy="5268960"/>
          </a:xfrm>
          <a:prstGeom prst="rect">
            <a:avLst/>
          </a:prstGeom>
          <a:noFill/>
          <a:ln w="0">
            <a:noFill/>
          </a:ln>
        </p:spPr>
        <p:txBody>
          <a:bodyPr lIns="90000" rIns="90000" tIns="46800" bIns="46800" anchor="t">
            <a:normAutofit/>
          </a:bodyPr>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a transferibilidad nos permite valorar si los hallazgos, metáforas o categorías implícitas o explícitas podrían trasladarse a otros escenarios sociales y a sus actores. La aplicabilidad vendría a evaluar si estos hallazgos o metáforas pueden emplearse en la práctica particular de quien realiza la lectura o hace la revisión.</a:t>
            </a: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Por tanto, un estudio que no sea transferible y aplicable sería, en apariencia, de poca utilidad. </a:t>
            </a:r>
            <a:r>
              <a:rPr b="0" lang="es-MX" sz="2200" spc="-1" strike="noStrike">
                <a:solidFill>
                  <a:srgbClr val="ffffff"/>
                </a:solidFill>
                <a:latin typeface="Arial"/>
              </a:rPr>
              <a:t>La utilidad, en última instancia, tiene que ver con la capacidad de una prueba para dar respuesta a un problema, sea cual sea su naturaleza. </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6840" y="713880"/>
            <a:ext cx="7829640" cy="5411880"/>
          </a:xfrm>
          <a:prstGeom prst="rect">
            <a:avLst/>
          </a:prstGeom>
          <a:noFill/>
          <a:ln w="0">
            <a:noFill/>
          </a:ln>
        </p:spPr>
        <p:txBody>
          <a:bodyPr lIns="90000" rIns="90000" tIns="46800" bIns="46800" anchor="t">
            <a:normAutofit/>
          </a:bodyPr>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A continuación se propone una clasificación de la utilidad de los hallazgos según su capacidad para resolver el problema de un sujeto -profesional- en un escenario -profesional. La clasificación propuesta tiene cuatro niveles:</a:t>
            </a: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Hallazgos útiles para resolver un problema. Se trata de aquellos estudios cuyos hallazgos son claros, creíbles, transferibles a otros escenarios y actores, además de aplicables a la práctica del revisor.</a:t>
            </a: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Hallazgos útiles para la orientación en la resolución de un problema. Cuando un estudio proporciona hallazgos claros, creíbles y transferibles pero que no pueden ser aplicados de manera inmediata a la práctica del revisor.</a:t>
            </a: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99680" y="928440"/>
            <a:ext cx="7829640" cy="5483160"/>
          </a:xfrm>
          <a:prstGeom prst="rect">
            <a:avLst/>
          </a:prstGeom>
          <a:noFill/>
          <a:ln w="0">
            <a:noFill/>
          </a:ln>
        </p:spPr>
        <p:txBody>
          <a:bodyPr lIns="90000" rIns="90000" tIns="46800" bIns="46800" anchor="t">
            <a:normAutofit/>
          </a:bodyPr>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Hallazgos útiles para la reflexión sobre las distintas alternativas de solución de un problema. Cuando los hallazgos son claros y creíbles pero no son transferibles a otras realidades y tampoco se pueden aplicar a la práctica de manera inmediata. Estos hallazgos pueden, sin embargo, ser útiles para reflexionar sobre algunas posibilidades de resolución del problema.</a:t>
            </a: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Hallazgos con escasa utilidad aplicada en el momento actual. Se trata de estudios creíbles pero que ni son transferibles ni aplicables actualmente. Además, los hallazgos suelen presentarse de manera poco explícita o son muy limitados.</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99680" y="928800"/>
            <a:ext cx="7900920" cy="5411520"/>
          </a:xfrm>
          <a:prstGeom prst="rect">
            <a:avLst/>
          </a:prstGeom>
          <a:noFill/>
          <a:ln w="0">
            <a:noFill/>
          </a:ln>
        </p:spPr>
        <p:txBody>
          <a:bodyPr lIns="90000" rIns="90000" tIns="46800" bIns="46800" anchor="t">
            <a:normAutofit/>
          </a:bodyPr>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    </a:t>
            </a: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19040" indent="-3826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Franklin Gothic Book"/>
              </a:rPr>
              <a:t>    </a:t>
            </a:r>
            <a:r>
              <a:rPr b="1" lang="es-ES" sz="3200" spc="-1" strike="noStrike">
                <a:solidFill>
                  <a:srgbClr val="ffffff"/>
                </a:solidFill>
                <a:latin typeface="Franklin Gothic Book"/>
              </a:rPr>
              <a:t>Tipos de investigación cualitativa que se ubican en el paradigma interpretativo</a:t>
            </a:r>
            <a:endParaRPr b="0" lang="en-US" sz="3200" spc="-1" strike="noStrike">
              <a:solidFill>
                <a:srgbClr val="ffffff"/>
              </a:solidFill>
              <a:latin typeface="Arial"/>
            </a:endParaRPr>
          </a:p>
          <a:p>
            <a:pPr marL="419040" indent="-3826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785880"/>
            <a:ext cx="8229600" cy="5340240"/>
          </a:xfrm>
          <a:prstGeom prst="rect">
            <a:avLst/>
          </a:prstGeom>
          <a:noFill/>
          <a:ln w="0">
            <a:noFill/>
          </a:ln>
        </p:spPr>
        <p:txBody>
          <a:bodyPr lIns="90000" rIns="90000" tIns="46800" bIns="46800" anchor="t">
            <a:normAutofit/>
          </a:bodyPr>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Franklin Gothic Book"/>
              </a:rPr>
              <a:t>Investigación etnometodológica</a:t>
            </a:r>
            <a:endParaRPr b="0" lang="en-US" sz="3000" spc="-1" strike="noStrike">
              <a:solidFill>
                <a:srgbClr val="ffffff"/>
              </a:solidFill>
              <a:latin typeface="Arial"/>
            </a:endParaRPr>
          </a:p>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 un enfoque de investigación que estudia el proceso de construcción del conocimiento social de una comunidad dada. </a:t>
            </a: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ocupa de la organización de la vida cotidiana. La realidad social resulta de nuestros pensamientos y nuestras acciones.   </a:t>
            </a: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esta especial importancia a las explicaciones que dan las personas, en particular a la forma en la cual se dan, se aceptan o rechazan esas explicaciones por parte de los otros (o “prácticas explicativas”, como se dice en esta teoría). Por esta razón, la etnometodología se interesa por el  análisis de las conversaciones.   </a:t>
            </a: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457200" y="857160"/>
            <a:ext cx="8229600" cy="5268960"/>
          </a:xfrm>
          <a:prstGeom prst="rect">
            <a:avLst/>
          </a:prstGeom>
          <a:noFill/>
          <a:ln w="0">
            <a:noFill/>
          </a:ln>
        </p:spPr>
        <p:txBody>
          <a:bodyPr lIns="90000" rIns="90000" tIns="46800" bIns="46800" anchor="t">
            <a:normAutofit/>
          </a:bodyPr>
          <a:p>
            <a:pPr marL="419040" indent="-382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Franklin Gothic Book"/>
              </a:rPr>
              <a:t>Diseños de teoría fundamentada</a:t>
            </a:r>
            <a:endParaRPr b="0" lang="en-US" sz="28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 teoría </a:t>
            </a:r>
            <a:r>
              <a:rPr b="0" lang="es-MX" sz="2000" spc="-1" strike="noStrike">
                <a:solidFill>
                  <a:srgbClr val="ffffff"/>
                </a:solidFill>
                <a:latin typeface="Arial"/>
              </a:rPr>
              <a:t>utiliza un procedimiento sistemático cualitativo para generar una teoría que explique en un nivel conceptual una acción, una interacción o un área específica. Esta teoría es denominada sustantiva o de rango medio y se aplica a un contexto más concreto. la distinguen de la “teoría formal”, cuya perspectiva es mayor. </a:t>
            </a: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teorías sustantivas son de naturaleza “local” (se relacionan con una situación y un contexto particular). Sus explicaciones se circunscriben a un ámbito determinado, pero poseen riqueza interpretativa y aportan nuevas visiones de un fenómeno. </a:t>
            </a:r>
            <a:endParaRPr b="0" lang="en-US" sz="2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785880"/>
            <a:ext cx="8229600" cy="5340240"/>
          </a:xfrm>
          <a:prstGeom prst="rect">
            <a:avLst/>
          </a:prstGeom>
          <a:noFill/>
          <a:ln w="0">
            <a:noFill/>
          </a:ln>
        </p:spPr>
        <p:txBody>
          <a:bodyPr lIns="90000" rIns="90000" tIns="46800" bIns="46800" anchor="t">
            <a:normAutofit/>
          </a:bodyPr>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planteamiento básico del diseño de la teoría fundamentada es que las proposiciones teóricas surgen de los datos obtenidos en la investigación, más que de los estudios previos. Es el procedimiento el que genera el entendimiento de un fenómeno educativo, psicológico, comunicativo o cualquier otro que sea concreto.</a:t>
            </a: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reswell (2005) menciona que la teoría fundamentada es especialmente útil cuando las teorías disponibles no explican el fenómeno o planteamiento del problema, o bien, cuando no cubren a los participantes o muestra de interés.</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571320" y="999720"/>
            <a:ext cx="7467480" cy="4357800"/>
          </a:xfrm>
          <a:prstGeom prst="rect">
            <a:avLst/>
          </a:prstGeom>
          <a:noFill/>
          <a:ln w="0">
            <a:noFill/>
          </a:ln>
        </p:spPr>
        <p:txBody>
          <a:bodyPr lIns="90000" rIns="90000" tIns="46800" bIns="46800" anchor="t">
            <a:normAutofit/>
          </a:bodyPr>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Exige gran dedicación por parte del investigador, que generalmente deberá permanecer en el campo durante periodos prolongados.</a:t>
            </a: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El propio investigador es el instrumento de investigación.</a:t>
            </a: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Requiere de un análisis continuo de los datos, lo que determinará las estrategias a seguir.</a:t>
            </a:r>
            <a:endParaRPr b="0" lang="en-US" sz="2100" spc="-1" strike="noStrike">
              <a:solidFill>
                <a:srgbClr val="ffffff"/>
              </a:solidFill>
              <a:latin typeface="Arial"/>
            </a:endParaRPr>
          </a:p>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ffffff"/>
                </a:solidFill>
                <a:latin typeface="Franklin Gothic Book"/>
              </a:rPr>
              <a:t>Análisis del discurso</a:t>
            </a:r>
            <a:endParaRPr b="0" lang="en-US" sz="4600" spc="-1" strike="noStrike">
              <a:solidFill>
                <a:srgbClr val="ffffff"/>
              </a:solidFill>
              <a:latin typeface="Franklin Gothic Book"/>
            </a:endParaRPr>
          </a:p>
        </p:txBody>
      </p:sp>
      <p:sp>
        <p:nvSpPr>
          <p:cNvPr id="29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Gran parte de los estudios sobre "análisis del discurso" (AD) ocurren en una o más de las siguientes áreas: forma, significado, interacción y cognición. </a:t>
            </a:r>
            <a:endParaRPr b="0" lang="en-US" sz="3000" spc="-1" strike="noStrike">
              <a:solidFill>
                <a:srgbClr val="ffffff"/>
              </a:solidFill>
              <a:latin typeface="Arial"/>
            </a:endParaRPr>
          </a:p>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Sin embargo, se aprecia que el "contexto" juega un rol fundamental en la descripción y explicación de los textos escritos y orales. </a:t>
            </a:r>
            <a:endParaRPr b="0" lang="en-US" sz="3000" spc="-1" strike="noStrike">
              <a:solidFill>
                <a:srgbClr val="ffffff"/>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Así, en la línea de enfoque de van Dijk, el contexto se puede definir como "la estructura que involucra todas las propiedades o atributos de la situación social que son relevantes en la producción y comprensión del discurso“</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Pues bien, al asumir un enfoque contextual del discurso involucramos muchos aspectos de la sociedad y su cultura. Por ejemplo, el uso pronominal que tenemos en nuestra lengua como el Español "tu-Ud" como formas de cortesía presupone siempre que, como usuarios de esta lengua, conocemos la naturaleza, de algún modo, del otro en la interacción social.</a:t>
            </a:r>
            <a:endParaRPr b="0" lang="en-US" sz="2300" spc="-1" strike="noStrike">
              <a:solidFill>
                <a:srgbClr val="ffffff"/>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6840" y="785880"/>
            <a:ext cx="7467480" cy="5340240"/>
          </a:xfrm>
          <a:prstGeom prst="rect">
            <a:avLst/>
          </a:prstGeom>
          <a:noFill/>
          <a:ln w="0">
            <a:noFill/>
          </a:ln>
        </p:spPr>
        <p:txBody>
          <a:bodyPr lIns="90000" rIns="90000" tIns="46800" bIns="46800" anchor="t">
            <a:normAutofit/>
          </a:bodyPr>
          <a:p>
            <a:pPr marL="419040" indent="-3826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alibri"/>
              </a:rPr>
              <a:t>GENERO: </a:t>
            </a: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alibri"/>
              </a:rPr>
              <a:t>En relación a este aspecto se plantea que como varones, de un modo abierto y a veces no tanto, nos comprometemos en formas verbales "sexistas" con y acerca del sexo opuesto, atributos que prevalecen en un grupo social. </a:t>
            </a: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alibri"/>
              </a:rPr>
              <a:t>De esta forma contribuimos a " reproducir" un sistema de desigualdad de géneros al ejercer un control de aquellos aspectos del contexto a expensas de participantes femeninos en el tópico, estilos, turnos, etc. en todo tipo de eventos comunicativos (Montgomery, l976; Giles, l979; Salkie, l995).</a:t>
            </a: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99680" y="785520"/>
            <a:ext cx="7467480" cy="5769000"/>
          </a:xfrm>
          <a:prstGeom prst="rect">
            <a:avLst/>
          </a:prstGeom>
          <a:noFill/>
          <a:ln w="0">
            <a:noFill/>
          </a:ln>
        </p:spPr>
        <p:txBody>
          <a:bodyPr lIns="90000" rIns="90000" tIns="46800" bIns="46800" anchor="t">
            <a:normAutofit/>
          </a:bodyPr>
          <a:p>
            <a:pPr marL="419040" indent="-3826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LA ETNICIDAD: </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Las ideas relacionadas con el punto anterior son válidas en cuanto a la etnicidad. Aunque no se define el concepto, implica el discurso y la comunicación intra e intercultural. </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Se menciona la situación en los EE.UU. donde la historia de la esclavitud y la segregación racial o el racismo continuo han creado las condiciones propicias del discurso típicas de las comunidades Afro-americanas en ese país . </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De esta manera, los grupos étnicos o raciales han sido capaces de desarrollar formas de hablar específicas dando origen a una influencia y adaptación mutua y generando al mismo tiempo problemas de comunicación y comprensión intercultural. </a:t>
            </a:r>
            <a:endParaRPr b="0" lang="en-US" sz="2300" spc="-1" strike="noStrike">
              <a:solidFill>
                <a:srgbClr val="ffffff"/>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99680" y="928440"/>
            <a:ext cx="7467480" cy="5483160"/>
          </a:xfrm>
          <a:prstGeom prst="rect">
            <a:avLst/>
          </a:prstGeom>
          <a:noFill/>
          <a:ln w="0">
            <a:noFill/>
          </a:ln>
        </p:spPr>
        <p:txBody>
          <a:bodyPr lIns="90000" rIns="90000" tIns="46800" bIns="46800" anchor="t">
            <a:normAutofit/>
          </a:bodyPr>
          <a:p>
            <a:pPr marL="419040" indent="-3826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LA CULTURA:</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El discurso es influido por las características de los cambios culturales. </a:t>
            </a: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Así, "narrar", "cumplir una orden", “expresar cortesía", por citar ejemplos, se pueden hacer de modos diferentes dependiendo de los valores, normas, relaciones sociales, o instituciones y la forma que adoptan o tienen determinados contextos socio-culturales. </a:t>
            </a:r>
            <a:endParaRPr b="0" lang="en-US" sz="3000" spc="-1" strike="noStrike">
              <a:solidFill>
                <a:srgbClr val="ffffff"/>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99680" y="857160"/>
            <a:ext cx="7467480" cy="5626080"/>
          </a:xfrm>
          <a:prstGeom prst="rect">
            <a:avLst/>
          </a:prstGeom>
          <a:noFill/>
          <a:ln w="0">
            <a:noFill/>
          </a:ln>
        </p:spPr>
        <p:txBody>
          <a:bodyPr lIns="90000" rIns="90000" tIns="46800" bIns="46800" anchor="t">
            <a:normAutofit/>
          </a:bodyPr>
          <a:p>
            <a:pPr marL="419040" indent="-3826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ANALISIS DEL DISCURSO SOCIAL:</a:t>
            </a: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Es la dimensión donde encontramos el AD relacionado con las nociones de cultura y sociedad.</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van Dijk plantea que si queremos explicar lo que es el "discurso", resulta insuficiente analizar sus estructuras internas, las acciones que se logran, o las operaciones mentales (procesos cognitivos) que ocurren en el uso del lenguaje. </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En este sentido es necesario dar cuenta que el discurso como acción social ocurre en un marco de comprensión, comunicación e interacción que a su vez son partes de estructuras y procesos socio-culturales más amplios. </a:t>
            </a:r>
            <a:endParaRPr b="0" lang="en-US" sz="2300" spc="-1" strike="noStrike">
              <a:solidFill>
                <a:srgbClr val="ffffff"/>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99680" y="428400"/>
            <a:ext cx="7467480" cy="5786280"/>
          </a:xfrm>
          <a:prstGeom prst="rect">
            <a:avLst/>
          </a:prstGeom>
          <a:noFill/>
          <a:ln w="0">
            <a:noFill/>
          </a:ln>
        </p:spPr>
        <p:txBody>
          <a:bodyPr lIns="90000" rIns="90000" tIns="46800" bIns="46800" anchor="t">
            <a:normAutofit/>
          </a:bodyPr>
          <a:p>
            <a:pPr marL="419040" indent="-3826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EL AD CRITICO: (o Análisis Crítico del Discurso)</a:t>
            </a:r>
            <a:endParaRPr b="0" lang="en-US" sz="3000" spc="-1" strike="noStrike">
              <a:solidFill>
                <a:srgbClr val="ffffff"/>
              </a:solidFill>
              <a:latin typeface="Arial"/>
            </a:endParaRPr>
          </a:p>
          <a:p>
            <a:pPr marL="419040" indent="-3826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En el AD crítico, el exponente explicita siempre su posición social y política; asume una posición con el fin de descubrir, desmitificar y, al mismo tiempo, "desafiar" una posición o dominación mediante un análisis crítico del discurso opuesto.</a:t>
            </a: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Su fin último no ser puramente científico, sino también político y social, es decir, con tendencia al "cambio".</a:t>
            </a: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Un analista crítico del discurso , además de tener en cuenta el vínculo entre discurso y estructura social apunta a ser un "agente de cambio", solidario con las necesidades que promueven tal cambio. </a:t>
            </a:r>
            <a:endParaRPr b="0" lang="en-US" sz="3000" spc="-1" strike="noStrike">
              <a:solidFill>
                <a:srgbClr val="ffffff"/>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a:solidFill>
                  <a:srgbClr val="ffffff"/>
                </a:solidFill>
                <a:latin typeface="Calibri"/>
              </a:rPr>
              <a:t>LOS PRINCIPIOS EN LA ACCION DEL AD</a:t>
            </a:r>
            <a:br>
              <a:rPr sz="4100"/>
            </a:br>
            <a:endParaRPr b="0" lang="en-US" sz="32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Calibri"/>
              </a:rPr>
              <a:t>Lo escrito y lo oral en su entorno natural: </a:t>
            </a:r>
            <a:r>
              <a:rPr b="0" lang="es-MX" sz="2800" spc="-1" strike="noStrike">
                <a:solidFill>
                  <a:srgbClr val="ffffff"/>
                </a:solidFill>
                <a:latin typeface="Calibri"/>
              </a:rPr>
              <a:t>significa que cualquier estudio de AD debe tener como centro un material de trabajo que refleje realmente lo que ocurre en la interacción.</a:t>
            </a:r>
            <a:endParaRPr b="0" lang="en-US" sz="2800" spc="-1" strike="noStrike">
              <a:solidFill>
                <a:srgbClr val="ffffff"/>
              </a:solidFill>
              <a:latin typeface="Arial"/>
            </a:endParaRPr>
          </a:p>
          <a:p>
            <a:pPr marL="419040" indent="-382680" algn="just">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just">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Calibri"/>
              </a:rPr>
              <a:t>El contexto: </a:t>
            </a:r>
            <a:r>
              <a:rPr b="0" lang="es-MX" sz="2800" spc="-1" strike="noStrike">
                <a:solidFill>
                  <a:srgbClr val="ffffff"/>
                </a:solidFill>
                <a:latin typeface="Calibri"/>
              </a:rPr>
              <a:t>el discurso debe ser estudiado preferentemente como constituyente de su situación local, global, socio-cultural. Así las estructuras contextuales se deben observar y analizar en detalle y también como posibles consecuencias del discurso.</a:t>
            </a:r>
            <a:endParaRPr b="0" lang="en-US" sz="2800" spc="-1" strike="noStrike">
              <a:solidFill>
                <a:srgbClr val="ffffff"/>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ff"/>
                </a:solidFill>
                <a:latin typeface="Calibri"/>
              </a:rPr>
              <a:t>El discurso como expresión oral: </a:t>
            </a:r>
            <a:r>
              <a:rPr b="0" lang="es-MX" sz="2600" spc="-1" strike="noStrike">
                <a:solidFill>
                  <a:srgbClr val="ffffff"/>
                </a:solidFill>
                <a:latin typeface="Calibri"/>
              </a:rPr>
              <a:t>Mientras la mayoría de los trabajos iniciales de Ad se centraron en textos escritos (literatura, medios), la tendencia ahora es considerar al habla como la forma básica y primordial del discurso.</a:t>
            </a: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ff"/>
                </a:solidFill>
                <a:latin typeface="Calibri"/>
              </a:rPr>
              <a:t>El discurso como práctica de los miembros de una sociedad:</a:t>
            </a:r>
            <a:r>
              <a:rPr b="0" lang="es-MX" sz="2600" spc="-1" strike="noStrike">
                <a:solidFill>
                  <a:srgbClr val="ffffff"/>
                </a:solidFill>
                <a:latin typeface="Calibri"/>
              </a:rPr>
              <a:t> Tanto el discurso oral y escrito son formas de prácticas sociales en contextos socio-culturales; no sólo somos usuarios de una lengua sino también somos parte o miembros de un grupo, institución o cultura. </a:t>
            </a:r>
            <a:endParaRPr b="0" lang="en-US" sz="2600" spc="-1" strike="noStrike">
              <a:solidFill>
                <a:srgbClr val="ffffff"/>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28400" y="1285560"/>
            <a:ext cx="7467480" cy="4143240"/>
          </a:xfrm>
          <a:prstGeom prst="rect">
            <a:avLst/>
          </a:prstGeom>
          <a:noFill/>
          <a:ln w="0">
            <a:noFill/>
          </a:ln>
        </p:spPr>
        <p:txBody>
          <a:bodyPr lIns="90000" rIns="90000" tIns="46800" bIns="46800" anchor="t">
            <a:normAutofit/>
          </a:bodyPr>
          <a:p>
            <a:pPr marL="419040" indent="-382680" algn="just">
              <a:lnSpc>
                <a:spcPct val="9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Calibri"/>
              </a:rPr>
              <a:t>Impulsa al investigador a construir un modelo de lo que se intuye en el ambiente social o de lo que trata el fenómeno de interés.</a:t>
            </a:r>
            <a:endParaRPr b="0" lang="en-US" sz="2200" spc="-1" strike="noStrike">
              <a:solidFill>
                <a:srgbClr val="ffffff"/>
              </a:solidFill>
              <a:latin typeface="Arial"/>
            </a:endParaRPr>
          </a:p>
          <a:p>
            <a:pPr marL="419040" indent="-382680" algn="just">
              <a:lnSpc>
                <a:spcPct val="9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lnSpc>
                <a:spcPct val="9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Calibri"/>
              </a:rPr>
              <a:t>Analiza el cometido del investigador y sus propios sesgos o prejuicios.</a:t>
            </a:r>
            <a:endParaRPr b="0" lang="en-US" sz="2200" spc="-1" strike="noStrike">
              <a:solidFill>
                <a:srgbClr val="ffffff"/>
              </a:solidFill>
              <a:latin typeface="Arial"/>
            </a:endParaRPr>
          </a:p>
          <a:p>
            <a:pPr marL="419040" indent="-382680" algn="just">
              <a:lnSpc>
                <a:spcPct val="9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lnSpc>
                <a:spcPct val="9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nSpc>
                <a:spcPct val="9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Es necesario realizar una planeación intensa que apoye el diseño emergente, ya que sin dicha planeación se obstaculizaría la flexibilidad del diseño</a:t>
            </a:r>
            <a:r>
              <a:rPr b="0" lang="es-MX" sz="2400" spc="-1" strike="noStrike">
                <a:solidFill>
                  <a:srgbClr val="ffffff"/>
                </a:solidFill>
                <a:latin typeface="Calibri"/>
              </a:rPr>
              <a:t>.</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ffffff"/>
                </a:solidFill>
                <a:latin typeface="Calibri"/>
              </a:rPr>
              <a:t>Las categorías de los miembros: </a:t>
            </a:r>
            <a:r>
              <a:rPr b="0" lang="es-MX" sz="2300" spc="-1" strike="noStrike">
                <a:solidFill>
                  <a:srgbClr val="ffffff"/>
                </a:solidFill>
                <a:latin typeface="Calibri"/>
              </a:rPr>
              <a:t>Se tienen que respetar las formas sobre cómo los integrantes o miembros de un grupo social interpretan, orientan y categorizan los atributos o propiedades del mundo social, sus conductas y el discurso mismo. </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ffffff"/>
                </a:solidFill>
                <a:latin typeface="Calibri"/>
              </a:rPr>
              <a:t>La secuencialidad:</a:t>
            </a:r>
            <a:r>
              <a:rPr b="0" lang="es-MX" sz="2300" spc="-1" strike="noStrike">
                <a:solidFill>
                  <a:srgbClr val="ffffff"/>
                </a:solidFill>
                <a:latin typeface="Calibri"/>
              </a:rPr>
              <a:t> Se refiere al hecho de que el discurso se realiza en un sentido lineal o secuencial tanto en su producción como en comprensión. </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Implica que en todo sus niveles (oraciones, proposiciones, actos) se deben enunciar e interpretar de acuerdo a la información precedente que es lo que ocurre en la así llamada "coherencia". </a:t>
            </a:r>
            <a:endParaRPr b="0" lang="en-US" sz="2300" spc="-1" strike="noStrike">
              <a:solidFill>
                <a:srgbClr val="ffffff"/>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ff"/>
                </a:solidFill>
                <a:latin typeface="Calibri"/>
              </a:rPr>
              <a:t>La constructividad: </a:t>
            </a:r>
            <a:r>
              <a:rPr b="0" lang="es-MX" sz="2600" spc="-1" strike="noStrike">
                <a:solidFill>
                  <a:srgbClr val="ffffff"/>
                </a:solidFill>
                <a:latin typeface="Calibri"/>
              </a:rPr>
              <a:t>Los discursos también son constructivos en el sentido que las unidades constitutivas se pueden usar, comprender, y analizar "funcionalmente" como partes de un todo, creando estructuras jerárquicas en la forma, significado e interacción.</a:t>
            </a: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ff"/>
                </a:solidFill>
                <a:latin typeface="Calibri"/>
              </a:rPr>
              <a:t>Niveles y dimensiones:</a:t>
            </a:r>
            <a:r>
              <a:rPr b="0" lang="es-MX" sz="2600" spc="-1" strike="noStrike">
                <a:solidFill>
                  <a:srgbClr val="ffffff"/>
                </a:solidFill>
                <a:latin typeface="Calibri"/>
              </a:rPr>
              <a:t> Los analistas del discurso tienen siempre la tendencia a descomponer su trabajo en niveles y cómo se relacionan estos niveles. Como usuarios de la lengua los manejamos como un conjunto (sonidos, significados, o acciones).</a:t>
            </a: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6840" y="1571400"/>
            <a:ext cx="7467480" cy="4686120"/>
          </a:xfrm>
          <a:prstGeom prst="rect">
            <a:avLst/>
          </a:prstGeom>
          <a:noFill/>
          <a:ln w="0">
            <a:noFill/>
          </a:ln>
        </p:spPr>
        <p:txBody>
          <a:bodyPr lIns="90000" rIns="90000" tIns="46800" bIns="46800" anchor="t">
            <a:normAutofit/>
          </a:bodyPr>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ff"/>
                </a:solidFill>
                <a:latin typeface="Calibri"/>
              </a:rPr>
              <a:t>La reglas: </a:t>
            </a:r>
            <a:r>
              <a:rPr b="0" lang="es-MX" sz="2600" spc="-1" strike="noStrike">
                <a:solidFill>
                  <a:srgbClr val="ffffff"/>
                </a:solidFill>
                <a:latin typeface="Calibri"/>
              </a:rPr>
              <a:t>Tanto el discurso oral como escrito se debe analizar como manifestación o expresión de reglas gramaticales, textuales, comunicativas o interaccionales compartidas socialmente.</a:t>
            </a:r>
            <a:endParaRPr b="0" lang="en-US" sz="2600" spc="-1" strike="noStrike">
              <a:solidFill>
                <a:srgbClr val="ffffff"/>
              </a:solidFill>
              <a:latin typeface="Arial"/>
            </a:endParaRPr>
          </a:p>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ff"/>
                </a:solidFill>
                <a:latin typeface="Calibri"/>
              </a:rPr>
              <a:t>Estrategias:</a:t>
            </a:r>
            <a:r>
              <a:rPr b="0" lang="es-MX" sz="2600" spc="-1" strike="noStrike">
                <a:solidFill>
                  <a:srgbClr val="ffffff"/>
                </a:solidFill>
                <a:latin typeface="Calibri"/>
              </a:rPr>
              <a:t> Los usuarios de una lengua conocen y aplican estrategias mentales e interactivas en el proceso de producción y comprensión efectiva para lograr una efectividad en la realización del discurso (expresión de la intensionalidad) y su impacto en la conducta de un destinatario . </a:t>
            </a:r>
            <a:endParaRPr b="0" lang="en-US" sz="2600" spc="-1" strike="noStrike">
              <a:solidFill>
                <a:srgbClr val="ffffff"/>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ffffff"/>
                </a:solidFill>
                <a:latin typeface="Arial"/>
              </a:rPr>
              <a:t>La cognición social: </a:t>
            </a:r>
            <a:r>
              <a:rPr b="0" lang="es-MX" sz="3000" spc="-1" strike="noStrike">
                <a:solidFill>
                  <a:srgbClr val="ffffff"/>
                </a:solidFill>
                <a:latin typeface="Arial"/>
              </a:rPr>
              <a:t>Se trata de los procesos mentales y representaciones del mundo que expresamos en lo oral o escrito. </a:t>
            </a: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No podríamos entender el significado, coherencia, acción, etc. sin considerar lo que ocurre en la mente de los usuarios de la lengua en la realización de las interacciones. </a:t>
            </a: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0" lang="es-MX" sz="4100" spc="-1" strike="noStrike">
                <a:solidFill>
                  <a:srgbClr val="ffffff"/>
                </a:solidFill>
                <a:latin typeface="Franklin Gothic Book"/>
              </a:rPr>
              <a:t>Bibliografía</a:t>
            </a:r>
            <a:br>
              <a:rPr sz="4100"/>
            </a:br>
            <a:endParaRPr b="0" lang="en-US" sz="4100" spc="-1" strike="noStrike">
              <a:solidFill>
                <a:srgbClr val="ffffff"/>
              </a:solidFill>
              <a:latin typeface="Franklin Gothic Book"/>
            </a:endParaRPr>
          </a:p>
        </p:txBody>
      </p:sp>
      <p:sp>
        <p:nvSpPr>
          <p:cNvPr id="309" name=""/>
          <p:cNvSpPr txBox="1"/>
          <p:nvPr/>
        </p:nvSpPr>
        <p:spPr>
          <a:xfrm>
            <a:off x="456840" y="1600200"/>
            <a:ext cx="7615080" cy="4525920"/>
          </a:xfrm>
          <a:prstGeom prst="rect">
            <a:avLst/>
          </a:prstGeom>
          <a:noFill/>
          <a:ln w="0">
            <a:noFill/>
          </a:ln>
        </p:spPr>
        <p:txBody>
          <a:bodyPr lIns="90000" rIns="90000" tIns="46800" bIns="46800" anchor="t">
            <a:normAutofit/>
          </a:bodyPr>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Arial"/>
              </a:rPr>
              <a:t> </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Arial"/>
              </a:rPr>
              <a:t>1. Polit DF, Hungler BP. “Diseño y métodos en la investigación cualitativa”. En: Polit DF, Hungler BP. Investigación científica en ciencias de la salud. 6ª ed. México: McGraw- Hill Interamericana; 2000. p. 231-247</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Arial"/>
              </a:rPr>
              <a:t> </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Arial"/>
              </a:rPr>
              <a:t>2. Lincoln Y.S, Guba E.G. Naturalistic inquiry. Newbury Park, CA:Sage. 1995</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Arial"/>
              </a:rPr>
              <a:t> </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Arial"/>
              </a:rPr>
              <a:t>3. LeCompte, M.D. (1995). Un matrimonio conveniente: diseño de investigación cualitativa y estándares para la evaluación de programas. RELIEVE, vol. 1, n. 1. Consultado en http://www.uv.es/RELIEVE/v1/RELIEVEv1n1.htm en (10-11-2006)</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Arial"/>
              </a:rPr>
              <a:t> </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28760" y="1428840"/>
            <a:ext cx="7758000" cy="4525920"/>
          </a:xfrm>
          <a:prstGeom prst="rect">
            <a:avLst/>
          </a:prstGeom>
          <a:noFill/>
          <a:ln w="0">
            <a:noFill/>
          </a:ln>
        </p:spPr>
        <p:txBody>
          <a:bodyPr lIns="90000" rIns="90000" tIns="46800" bIns="46800" anchor="t">
            <a:normAutofit/>
          </a:bodyPr>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Arial"/>
              </a:rPr>
              <a:t>4. Hammersley M, Atkinson P. “El diseño de la investigación: Problemas, casos y muestras”. En: Hammersley</a:t>
            </a:r>
            <a:endParaRPr b="0" lang="en-US" sz="2100" spc="-1" strike="noStrike">
              <a:solidFill>
                <a:srgbClr val="ffffff"/>
              </a:solidFill>
              <a:latin typeface="Arial"/>
            </a:endParaRPr>
          </a:p>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Arial"/>
              </a:rPr>
              <a:t> </a:t>
            </a:r>
            <a:endParaRPr b="0" lang="en-US" sz="2100" spc="-1" strike="noStrike">
              <a:solidFill>
                <a:srgbClr val="ffffff"/>
              </a:solidFill>
              <a:latin typeface="Arial"/>
            </a:endParaRPr>
          </a:p>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u="sng">
                <a:solidFill>
                  <a:srgbClr val="ffffff"/>
                </a:solidFill>
                <a:uFillTx/>
                <a:latin typeface="Arial"/>
              </a:rPr>
              <a:t>http://docs.google.com/gview?a=v&amp;q=cache:IW4y6Zlm-20J:www.rau.edu.uy/fcs/dts/Mip2/disenoscualitativos.pdf+dise%C3%B1os+cualitativos&amp;hl=es&amp;gl=mx&amp;sig=AFQjCNGUrXZ5mdP8-PG_aJZUJzzKoT5YFw</a:t>
            </a:r>
            <a:endParaRPr b="0" lang="en-US" sz="2100" spc="-1" strike="noStrike">
              <a:solidFill>
                <a:srgbClr val="ffffff"/>
              </a:solidFill>
              <a:latin typeface="Arial"/>
            </a:endParaRPr>
          </a:p>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Arial"/>
              </a:rPr>
              <a:t> </a:t>
            </a:r>
            <a:endParaRPr b="0" lang="en-US" sz="2100" spc="-1" strike="noStrike">
              <a:solidFill>
                <a:srgbClr val="ffffff"/>
              </a:solidFill>
              <a:latin typeface="Arial"/>
            </a:endParaRPr>
          </a:p>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ffffff"/>
                </a:solidFill>
                <a:uFillTx/>
                <a:latin typeface="Arial"/>
              </a:rPr>
              <a:t>http://www.index-f.com/evidentia/clasificacion_evid_cualiativas.php</a:t>
            </a:r>
            <a:endParaRPr b="0" lang="en-US" sz="2100" spc="-1" strike="noStrike">
              <a:solidFill>
                <a:srgbClr val="ffffff"/>
              </a:solidFill>
              <a:latin typeface="Arial"/>
            </a:endParaRPr>
          </a:p>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endParaRPr b="0" lang="en-US" sz="2100" spc="-1" strike="noStrike">
              <a:solidFill>
                <a:srgbClr val="ffffff"/>
              </a:solidFill>
              <a:latin typeface="Arial"/>
            </a:endParaRPr>
          </a:p>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http://www.rau.edu.uy/fcs/dts/Mip2/disenoscualitativos.pdf</a:t>
            </a:r>
            <a:endParaRPr b="0" lang="en-US" sz="2100" spc="-1" strike="noStrike">
              <a:solidFill>
                <a:srgbClr val="ffffff"/>
              </a:solidFill>
              <a:latin typeface="Arial"/>
            </a:endParaRPr>
          </a:p>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28400" y="49968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ffffff"/>
                </a:solidFill>
                <a:latin typeface="Calibri"/>
              </a:rPr>
              <a:t>La planeación debe ser detallada en aspectos como</a:t>
            </a:r>
            <a:r>
              <a:rPr b="0" lang="es-MX" sz="4100" spc="-1" strike="noStrike">
                <a:solidFill>
                  <a:srgbClr val="ffffff"/>
                </a:solidFill>
                <a:latin typeface="Franklin Gothic Book"/>
              </a:rPr>
              <a:t>:</a:t>
            </a:r>
            <a:br>
              <a:rPr sz="4100"/>
            </a:br>
            <a:endParaRPr b="0" lang="en-US" sz="4100" spc="-1" strike="noStrike">
              <a:solidFill>
                <a:srgbClr val="ffffff"/>
              </a:solidFill>
              <a:latin typeface="Franklin Gothic Book"/>
            </a:endParaRPr>
          </a:p>
        </p:txBody>
      </p:sp>
      <p:sp>
        <p:nvSpPr>
          <p:cNvPr id="260" name=""/>
          <p:cNvSpPr txBox="1"/>
          <p:nvPr/>
        </p:nvSpPr>
        <p:spPr>
          <a:xfrm>
            <a:off x="428400" y="1857240"/>
            <a:ext cx="7467480" cy="4525920"/>
          </a:xfrm>
          <a:prstGeom prst="rect">
            <a:avLst/>
          </a:prstGeom>
          <a:noFill/>
          <a:ln w="0">
            <a:noFill/>
          </a:ln>
        </p:spPr>
        <p:txBody>
          <a:bodyPr lIns="90000" rIns="90000" tIns="46800" bIns="46800" anchor="t">
            <a:normAutofit/>
          </a:bodyPr>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Identificación de potenciales colaboradores para el estudio</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Selección del sitio donde se realizará el estudio</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Estrategias para tener acceso al sitio</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Colecta de materiales pertinentes acerca del sitio, como mapas, documentos descriptivos, etc.</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Identificación de los ambientes del sitio que podrían ser especialmente propicios para la recogida de datos significativos</a:t>
            </a: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99680" y="571680"/>
            <a:ext cx="7467480" cy="5643360"/>
          </a:xfrm>
          <a:prstGeom prst="rect">
            <a:avLst/>
          </a:prstGeom>
          <a:noFill/>
          <a:ln w="0">
            <a:noFill/>
          </a:ln>
        </p:spPr>
        <p:txBody>
          <a:bodyPr lIns="90000" rIns="90000" tIns="46800" bIns="46800" anchor="t">
            <a:normAutofit/>
          </a:bodyPr>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Identificación de contactos clave que podrían favorecer (o impedir) el acceso a fuentes determinadas de datos</a:t>
            </a:r>
            <a:endParaRPr b="0" lang="en-US" sz="2100" spc="-1" strike="noStrike">
              <a:solidFill>
                <a:srgbClr val="ffffff"/>
              </a:solidFill>
              <a:latin typeface="Arial"/>
            </a:endParaRPr>
          </a:p>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Determinar el tiempo máximo disponible para realizar el estudio, teniendo en cuenta aspectos como los costos, disponibilidad u otras restricciones</a:t>
            </a:r>
            <a:endParaRPr b="0" lang="en-US" sz="2100" spc="-1" strike="noStrike">
              <a:solidFill>
                <a:srgbClr val="ffffff"/>
              </a:solidFill>
              <a:latin typeface="Arial"/>
            </a:endParaRPr>
          </a:p>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Identificación de los instrumentos que serán útiles para la recogida y el análisis de los datos, como por ejemplo, programas estadísticos, grabadoras de voz o de vídeo, etc.</a:t>
            </a:r>
            <a:endParaRPr b="0" lang="en-US" sz="2100" spc="-1" strike="noStrike">
              <a:solidFill>
                <a:srgbClr val="ffffff"/>
              </a:solidFill>
              <a:latin typeface="Arial"/>
            </a:endParaRPr>
          </a:p>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Determinar el número y tipo de personas que podrían ser requeridos para ayudar en la realización del proyecto, así como su capacitación</a:t>
            </a:r>
            <a:endParaRPr b="0" lang="en-US" sz="2100" spc="-1" strike="noStrike">
              <a:solidFill>
                <a:srgbClr val="ffffff"/>
              </a:solidFill>
              <a:latin typeface="Arial"/>
            </a:endParaRPr>
          </a:p>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Identificación de los procedimientos de consentimiento informado apropiados, así como aspectos éticos a tener en cuenta.</a:t>
            </a:r>
            <a:endParaRPr b="0" lang="en-US" sz="2100" spc="-1" strike="noStrike">
              <a:solidFill>
                <a:srgbClr val="ffffff"/>
              </a:solidFill>
              <a:latin typeface="Arial"/>
            </a:endParaRPr>
          </a:p>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Calibri"/>
              </a:rPr>
              <a:t>Fases del diseño cualitativo</a:t>
            </a:r>
            <a:endParaRPr b="0" lang="en-US" sz="4600" spc="-1" strike="noStrike">
              <a:solidFill>
                <a:srgbClr val="ffffff"/>
              </a:solidFill>
              <a:latin typeface="Franklin Gothic Book"/>
            </a:endParaRPr>
          </a:p>
        </p:txBody>
      </p:sp>
      <p:sp>
        <p:nvSpPr>
          <p:cNvPr id="26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alibri"/>
              </a:rPr>
              <a:t>Orientación y panorama general:</a:t>
            </a:r>
            <a:endParaRPr b="0" lang="en-US" sz="2000" spc="-1" strike="noStrike">
              <a:solidFill>
                <a:srgbClr val="ffffff"/>
              </a:solidFill>
              <a:latin typeface="Arial"/>
            </a:endParaRPr>
          </a:p>
          <a:p>
            <a:pPr marL="4190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alibri"/>
              </a:rPr>
              <a:t>	</a:t>
            </a:r>
            <a:r>
              <a:rPr b="0" lang="es-MX" sz="2000" spc="-1" strike="noStrike">
                <a:solidFill>
                  <a:srgbClr val="ffffff"/>
                </a:solidFill>
                <a:latin typeface="Calibri"/>
              </a:rPr>
              <a:t> </a:t>
            </a:r>
            <a:r>
              <a:rPr b="0" lang="es-MX" sz="2000" spc="-1" strike="noStrike">
                <a:solidFill>
                  <a:srgbClr val="ffffff"/>
                </a:solidFill>
                <a:latin typeface="Calibri"/>
              </a:rPr>
              <a:t>Consiste en captar lo sobresaliente del fenómeno de interés. El investigador debe indagar sobre todo lo relativo al fenómeno sobre el que va a realizar el estudio, un conocimiento de las diferentes perspectivas del fenómeno objeto de estudio que permite al investigador identificar los aspectos que tendrá que tener en cuenta en la recogida de datos.</a:t>
            </a:r>
            <a:endParaRPr b="0" lang="en-US" sz="2000" spc="-1" strike="noStrike">
              <a:solidFill>
                <a:srgbClr val="ffffff"/>
              </a:solidFill>
              <a:latin typeface="Arial"/>
            </a:endParaRPr>
          </a:p>
          <a:p>
            <a:pPr marL="4190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alibri"/>
              </a:rPr>
              <a:t>Exploración concentrada:</a:t>
            </a:r>
            <a:endParaRPr b="0" lang="en-US" sz="2000" spc="-1" strike="noStrike">
              <a:solidFill>
                <a:srgbClr val="ffffff"/>
              </a:solidFill>
              <a:latin typeface="Arial"/>
            </a:endParaRPr>
          </a:p>
          <a:p>
            <a:pPr marL="4190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alibri"/>
              </a:rPr>
              <a:t>	</a:t>
            </a:r>
            <a:r>
              <a:rPr b="0" lang="es-MX" sz="2000" spc="-1" strike="noStrike">
                <a:solidFill>
                  <a:srgbClr val="ffffff"/>
                </a:solidFill>
                <a:latin typeface="Calibri"/>
              </a:rPr>
              <a:t>Conocimiento exhaustivo sobre el fenómeno que nos ayudará a determinar qué factores debemos tener en cuenta y nos guiará sobre qué personas nos pueden auxiliar.</a:t>
            </a:r>
            <a:endParaRPr b="0" lang="en-US" sz="2000" spc="-1" strike="noStrike">
              <a:solidFill>
                <a:srgbClr val="ffffff"/>
              </a:solidFill>
              <a:latin typeface="Arial"/>
            </a:endParaRPr>
          </a:p>
          <a:p>
            <a:pPr marL="419040" indent="-382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6840" y="1600200"/>
            <a:ext cx="7467480" cy="4043520"/>
          </a:xfrm>
          <a:prstGeom prst="rect">
            <a:avLst/>
          </a:prstGeom>
          <a:noFill/>
          <a:ln w="0">
            <a:noFill/>
          </a:ln>
        </p:spPr>
        <p:txBody>
          <a:bodyPr lIns="90000" rIns="90000" tIns="46800" bIns="46800" anchor="t">
            <a:normAutofit/>
          </a:bodyPr>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Confirmación y cierre: Los investigadores se esfuerzan por establecer que sus resultados son confiables, a menudo analizando con los propios sujetos de estudio los conocimientos adquiridos con la investigación.</a:t>
            </a: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Esta confirmación con los propios sujetos de estudio de los resultados obtenidos sirve para corroborar que dichos resultados no son fruto de la subjetividad de los investigadores, sino que se ha recogido lo que los participantes en el estudio querían transmitir</a:t>
            </a:r>
            <a:endParaRPr b="0" lang="en-US" sz="2100" spc="-1" strike="noStrike">
              <a:solidFill>
                <a:srgbClr val="ffffff"/>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11 Título" descr=""/>
          <p:cNvPicPr/>
          <p:nvPr/>
        </p:nvPicPr>
        <p:blipFill>
          <a:blip r:embed="rId1"/>
          <a:stretch/>
        </p:blipFill>
        <p:spPr>
          <a:xfrm>
            <a:off x="1206360" y="3067200"/>
            <a:ext cx="6645240" cy="18396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01:15:48Z</dcterms:created>
  <dc:creator>usuario</dc:creator>
  <dc:description/>
  <dc:language>en-US</dc:language>
  <cp:lastModifiedBy>usuario</cp:lastModifiedBy>
  <dcterms:modified xsi:type="dcterms:W3CDTF">2009-10-31T05:42:51Z</dcterms:modified>
  <cp:revision>28</cp:revision>
  <dc:subject/>
  <dc:title>Diseños Cualitativos</dc:title>
</cp:coreProperties>
</file>